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19008725" cy="10691813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40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2989440" y="887400"/>
            <a:ext cx="4255920" cy="239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1022400" y="3416040"/>
            <a:ext cx="8190000" cy="2795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41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42"/>
          </p:nvPr>
        </p:nvSpPr>
        <p:spPr>
          <a:xfrm>
            <a:off x="579708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001E4-5A3B-49D0-9D23-28CFBE76F94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2989440" y="887400"/>
            <a:ext cx="4255920" cy="23954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1022400" y="3416040"/>
            <a:ext cx="8190000" cy="27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endParaRPr b="0" lang="zh-CN" sz="1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579744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417A5-229A-4B07-ACFE-D9E5B9F079B5}" type="slidenum"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C40-8E1C-4D97-8618-056E808C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DFD-E847-48B7-8D93-366C7943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3976B-5289-45AB-9037-1DA9F4BF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B20E8-A138-4175-AE50-0FC8154A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44B65-1CAC-451E-9582-FAAFAB01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77444-FF91-4750-BDD2-79CA00C2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F4E66-0553-477D-88C2-F0647F9E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12022-F997-4FA2-84A0-1A01BE59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7AB48-48DC-4343-8203-4DBACBE8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3BE61-6D18-47A7-BBB2-09DF0DE1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28ECD-DB84-4D0A-9CB4-273DCEA6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88610-3BEA-45BC-9E37-FC972D51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10A-626E-438C-993F-9D5FC516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66FF4-C78C-45F1-AB77-26C9C909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FED8C-5672-4026-825E-3A33720C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CEBA0-FB8C-43E9-BD16-A98760CA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11A40-8C82-4634-9C5C-B49D8934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4C613-4592-4CD9-899C-1D60261F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7C510-A3DE-4724-9F6C-004D52DE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38C43-BCE0-4945-A51F-768C29D6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94A00-5CDB-42DD-AB3C-41DB79CA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72F01-4759-4432-B258-51CD5B5F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38731-AD1F-4D69-98F7-45BAB5CF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F22-CAB6-4E26-9B40-302AE9AA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3776C-E75A-4503-97BC-61A53BE4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0F2FA-9E33-409D-9938-2C9363A4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DD060-FB42-46F3-A494-1CA4B658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9E873-C3A7-4E64-8820-D676764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CE122-F34D-4C38-B35C-758175C6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0C04-97F4-445B-84E8-7CE0F3E6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74DFC-C008-48E9-AB2F-E852443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1890B-5C9C-4E4A-BAC3-B9945023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6C766-2A79-4B7B-83ED-593C0097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35B2A-696C-47CB-A0D1-781E68F0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B6FF-A181-455E-921F-E9881D18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B1BAC-5382-4A32-9AC7-6AE45ECD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D7889-9313-44F1-B901-620FD9A4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EDD26-FC19-471E-AFB3-7D619D4E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1599A-84E0-4350-AB8C-24E0942A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3D804-ACBE-4171-88C0-B5940B45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00C72-E3DF-4FC0-A02D-6100C15C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D1E88-F3F3-44C2-B1A2-3340408B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CE9A2-54C2-4816-BA2E-562B5098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D8DF9-5BB0-4E4C-8D64-9AB2F1C1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58663-1C21-41DB-A04D-D975A72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D2C5-DA17-4BA4-A5A7-849CAD3D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FF41E-5A4B-475C-A701-CC12268E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BAEB6-E970-48FE-BB4C-E9813C3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9FDC9-8F7A-4310-A97B-6F35A7B4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740F7-E352-4444-9B2C-0C1BED11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E3084-D504-4C63-8460-5943240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006AC-E1FC-4482-8190-EA81E1C7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7AF3D-5DC1-46EF-9B4A-7EC454CF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38BE4-AC38-4BF5-BE33-EFC8EF06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398DE-A52E-41E5-93C8-F77AFD25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45413-2768-41A1-8455-E2F911F6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42FD-D403-4F86-822D-76A2CE28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EEA1C-7BF1-400E-A5E7-F15FBB96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116BF-3020-41E3-8F0E-97488B82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1DD53-CCDE-4D6A-BE6B-6E4F63F0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1B0B9-61FD-4A84-BB9D-E59854E1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3B6F8-05AA-4515-8960-97ED37B3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E98F7-A030-42E3-83A0-3385E0B5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723BA-E536-45B3-9141-F8C06D59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E693-6797-4010-98FC-9677A508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7FF6-269D-42DE-86A2-75E5D117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8501-EDF7-4D9C-9AAD-2428ED59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C513-FCEB-409D-A6C4-F6BF7B17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CEF-8087-405E-B78A-2725D330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1561-B5FE-4C42-BBE4-B81DE341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89C1-9F02-491A-8C93-91D7C910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B8C8-2983-4565-BF40-F6677EA3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D27D-64B8-47F5-91BE-2B7FAEA4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1410-ED00-4B60-B983-ECAD9E4D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567B-458D-4564-8EEB-9968FF31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AC0F-B5EC-4C90-AD00-74DAE803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681C-F5D1-4FF8-B24A-F137EC43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B191-5004-4A9D-81A6-302169D5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05B5-0A06-4159-9653-93C005E4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C42-CD9D-46E9-AE3F-39D60C86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C382-0250-4887-947F-D4D2DB29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0384-22E7-462A-B586-9410B61C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22D19-5A2C-418E-B926-D8CDF84A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4F4A-0FC6-4CED-B096-8DB8144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3ADB-542F-458F-BBE3-EAE4E205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2ACA-74E8-4D01-995E-B53E08D9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CC0B-D00C-479D-A8DE-C1EC59E0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6C0D-826B-4930-AE92-02479C81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AC60-5B32-4C1C-B94C-2425AA79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88926-62FF-4FA2-8909-317E662F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F16-56FC-4DDF-956E-18C10665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BC93-B9D4-432F-92D1-7971E14B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F0F5-A790-45BB-9EBB-AD155161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484F0-55AF-41F0-BADF-662FFD9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03DF-461D-49F5-BB97-532F0365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4774-D975-4237-BD85-D8E029FD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7442-8151-43F8-BFD8-CF9320D0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C337-35E7-4180-B4FA-9BFD5B78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D468-D1BF-462B-95AF-F86D7B8C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FE659-1598-45C4-8880-95E54A30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3C903-AD09-4160-9974-F24C9C3B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5BB-46E4-4E16-9FB8-47A680D9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3F554-B13E-4946-9050-13BE7EED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2583-6A06-4E98-A05D-1D0141CF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BE59-5414-4CFC-B3F8-37ABF64D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57336-691B-44BE-9E5D-835FDBB8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9E2C-6A06-43D3-9382-7B6A77A5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5AC6-7418-4C60-B804-9CEE42B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14F5-751C-47F0-A0D7-C447AA5D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2E9B0-7CB9-407D-95A3-B77EA271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AA6F9-D408-44D1-B2BD-4359AA1A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0C764-112E-4F52-8413-AAEE47B0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A50-4936-48A7-BB8A-8121BB5D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D26E-48E7-47F6-9252-D1DBAC6E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9C115-9EFA-4259-8107-97DEEE26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A055F-6C64-4952-B773-9D2D3443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2D81-FE80-46EF-908C-B4A212F9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D9B74-CF43-46BD-B7CE-554736FB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B9979-E4AA-4F15-968A-F893A891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5CFFA-1EC5-4136-BD3D-612801D4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76DD1-132A-4B97-8081-783D8211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00A4-18AD-4924-8F4D-46AEC87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6BF9A-F61D-4D67-8778-30064269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C8B-AD97-4EBF-B2DD-57AC91CF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046EF-B441-466B-A1CD-922D3936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CDC21-50D5-49F5-BAA5-A1B303AB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65343-7174-4054-8EC8-1CE862DC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940FA-2291-44CD-B9B1-E048C328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E2939-E063-4D36-A341-880DB53F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24BDC-2CBD-4C06-BF3D-1C5E28CF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0958-F1E9-4FA0-A347-A77105CC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FC7E3-5CFD-4D6F-A854-C2556495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EF18E-70A3-4AC6-BD7B-4E456B99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841DD-E648-43D4-8650-BBD7566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AB4-46E6-43E6-97DF-74875C65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0D95C-C405-4799-812B-1183083A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4AB4C-262A-47D0-AE72-84F5161C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5A3ED-C4E2-42C4-AF62-C0767CFD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27D19-F6CB-401C-BF80-34F959B0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EC7C4-E6E7-42A8-BC99-9DAC4C6E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01D7F-60A9-4629-A3BB-6A1287D3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7F30F-09EA-4383-ADF6-7CEA7D59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95C6D-B7F2-4EED-B4A4-BDB0FAF2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968D8-2AD7-4B2C-92F1-75CB13E3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2D170-547E-4949-913E-16F331BB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1EF-9E4B-4703-B5D1-4EE4B44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306080" y="569520"/>
            <a:ext cx="16394040" cy="9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B9FDD-576E-460F-A49A-CF257CAC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0BC1D-3AA5-4838-92CC-1EE45BEA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21E4C-8D78-4743-838C-0958519E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3E7A6-0748-4954-9684-036DFB8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306080" y="6389640"/>
            <a:ext cx="1639404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F1BA6-14C9-4EC6-A1D6-82F88CDF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706680" y="284652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060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706680" y="6389640"/>
            <a:ext cx="8000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EC97E-4D90-45A3-B1AC-2D2CC0A7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4900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391920" y="284652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30608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684900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12391920" y="6389640"/>
            <a:ext cx="52786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ABDBA-0B8C-4183-BCD2-2D5FA8F5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B58A8-8F0F-4B9C-B3CF-BD23ABC2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62"/>
              </a:spcBef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4BCDC-24F6-43F4-BEFA-63315C7B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8F4A4-53FF-4BEE-B0EB-55C1F01A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5AAAA-6C49-4362-BC14-D88F25EE3D76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2CF36-07B7-43B9-A93E-5DC5801DA7AA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3A7BE-B3A4-44DD-858C-A5C2A5A5C4C8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03F8E-F229-4A8D-AB59-CE815697AAA3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1"/>
          <p:cNvSpPr/>
          <p:nvPr/>
        </p:nvSpPr>
        <p:spPr>
          <a:xfrm>
            <a:off x="0" y="10159920"/>
            <a:ext cx="19007280" cy="53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矩形 2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6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B2876-3598-4A3D-9B3C-505A0F932BBC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EC4F2-EAD6-4202-A37A-A02FCFF55EE9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95325-9FF7-4BEB-8C41-5E97D1D0A9CC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C8773-5FFD-4F7B-A7AB-B2B17B7F7745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C2A4D-2C8C-476D-B97A-9AFFBF9AA679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FE072-7C6C-4345-AE25-DF3A4E3AF7EE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1"/>
          <p:cNvSpPr/>
          <p:nvPr/>
        </p:nvSpPr>
        <p:spPr>
          <a:xfrm>
            <a:off x="0" y="10202760"/>
            <a:ext cx="19007280" cy="48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38400"/>
                <a:tab algn="l" pos="2476440"/>
                <a:tab algn="l" pos="3714840"/>
                <a:tab algn="l" pos="4952880"/>
                <a:tab algn="l" pos="6191280"/>
                <a:tab algn="l" pos="7429680"/>
                <a:tab algn="l" pos="8667720"/>
                <a:tab algn="l" pos="99061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C4358-7F4D-41EA-853C-CCA6410B79E9}" type="slidenum">
              <a:rPr b="0" lang="en-US" sz="24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25F0F-F92D-4A73-B29B-871EFEFC9A06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1"/>
          <p:cNvSpPr/>
          <p:nvPr/>
        </p:nvSpPr>
        <p:spPr>
          <a:xfrm>
            <a:off x="0" y="1015920"/>
            <a:ext cx="19007280" cy="87480"/>
          </a:xfrm>
          <a:prstGeom prst="rect">
            <a:avLst/>
          </a:prstGeom>
          <a:gradFill rotWithShape="0">
            <a:gsLst>
              <a:gs pos="0">
                <a:srgbClr val="2e75b6"/>
              </a:gs>
              <a:gs pos="100000">
                <a:srgbClr val="005cbf">
                  <a:alpha val="49019"/>
                </a:srgbClr>
              </a:gs>
            </a:gsLst>
            <a:lin ang="10800000"/>
          </a:gra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2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06080" y="569520"/>
            <a:ext cx="1639404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306080" y="2846520"/>
            <a:ext cx="16394040" cy="67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10684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17812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24940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3206880" indent="-355680">
              <a:lnSpc>
                <a:spcPct val="90000"/>
              </a:lnSpc>
              <a:spcBef>
                <a:spcPts val="1562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2847960"/>
                <a:tab algn="l" pos="4272120"/>
                <a:tab algn="l" pos="5695920"/>
                <a:tab algn="l" pos="7120080"/>
                <a:tab algn="l" pos="8543880"/>
                <a:tab algn="l" pos="99680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1306440" y="9909000"/>
            <a:ext cx="42768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296040" y="9909000"/>
            <a:ext cx="64152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3423680" y="9909000"/>
            <a:ext cx="427644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A7077-6515-40B4-B520-4D6123DC96B8}" type="slidenum">
              <a:rPr b="0" lang="zh-CN" sz="2400" spc="-1" strike="noStrike">
                <a:solidFill>
                  <a:srgbClr val="898989"/>
                </a:solidFill>
                <a:latin typeface="Times New Roman"/>
                <a:ea typeface="等线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1" descr="顺义区公路路网图"/>
          <p:cNvPicPr/>
          <p:nvPr/>
        </p:nvPicPr>
        <p:blipFill>
          <a:blip r:embed="rId1"/>
          <a:srcRect l="10189" t="0" r="10531" b="8798"/>
          <a:stretch/>
        </p:blipFill>
        <p:spPr>
          <a:xfrm>
            <a:off x="4695840" y="0"/>
            <a:ext cx="12241080" cy="9960120"/>
          </a:xfrm>
          <a:prstGeom prst="rect">
            <a:avLst/>
          </a:prstGeom>
          <a:ln w="0">
            <a:noFill/>
          </a:ln>
        </p:spPr>
      </p:pic>
      <p:sp>
        <p:nvSpPr>
          <p:cNvPr id="567" name="矩形 3"/>
          <p:cNvSpPr/>
          <p:nvPr/>
        </p:nvSpPr>
        <p:spPr>
          <a:xfrm>
            <a:off x="0" y="0"/>
            <a:ext cx="549360" cy="1098720"/>
          </a:xfrm>
          <a:prstGeom prst="rect">
            <a:avLst/>
          </a:prstGeom>
          <a:solidFill>
            <a:srgbClr val="4472c4"/>
          </a:solidFill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椭圆 6"/>
          <p:cNvSpPr/>
          <p:nvPr/>
        </p:nvSpPr>
        <p:spPr>
          <a:xfrm>
            <a:off x="11957040" y="3149640"/>
            <a:ext cx="18432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5"/>
          <p:cNvSpPr/>
          <p:nvPr/>
        </p:nvSpPr>
        <p:spPr>
          <a:xfrm>
            <a:off x="11215800" y="278136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木林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22"/>
          <p:cNvSpPr/>
          <p:nvPr/>
        </p:nvSpPr>
        <p:spPr>
          <a:xfrm>
            <a:off x="822240" y="270000"/>
            <a:ext cx="89899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义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道班位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椭圆 13"/>
          <p:cNvSpPr/>
          <p:nvPr/>
        </p:nvSpPr>
        <p:spPr>
          <a:xfrm>
            <a:off x="12872880" y="5648400"/>
            <a:ext cx="18432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椭圆 14"/>
          <p:cNvSpPr/>
          <p:nvPr/>
        </p:nvSpPr>
        <p:spPr>
          <a:xfrm>
            <a:off x="9437760" y="8067600"/>
            <a:ext cx="18396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椭圆 16"/>
          <p:cNvSpPr/>
          <p:nvPr/>
        </p:nvSpPr>
        <p:spPr>
          <a:xfrm>
            <a:off x="10082160" y="6384960"/>
            <a:ext cx="18432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7176960" y="5808600"/>
            <a:ext cx="18432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9809280" y="6189840"/>
            <a:ext cx="18396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5"/>
          <p:cNvSpPr/>
          <p:nvPr/>
        </p:nvSpPr>
        <p:spPr>
          <a:xfrm>
            <a:off x="13057200" y="528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杨镇道班旧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椭圆 23"/>
          <p:cNvSpPr/>
          <p:nvPr/>
        </p:nvSpPr>
        <p:spPr>
          <a:xfrm>
            <a:off x="13755600" y="7377120"/>
            <a:ext cx="18432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5"/>
          <p:cNvSpPr/>
          <p:nvPr/>
        </p:nvSpPr>
        <p:spPr>
          <a:xfrm>
            <a:off x="13246200" y="702324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尹家府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椭圆 25"/>
          <p:cNvSpPr/>
          <p:nvPr/>
        </p:nvSpPr>
        <p:spPr>
          <a:xfrm>
            <a:off x="11123640" y="7994520"/>
            <a:ext cx="18396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5"/>
          <p:cNvSpPr/>
          <p:nvPr/>
        </p:nvSpPr>
        <p:spPr>
          <a:xfrm>
            <a:off x="10665000" y="766296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苏庄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5"/>
          <p:cNvSpPr/>
          <p:nvPr/>
        </p:nvSpPr>
        <p:spPr>
          <a:xfrm>
            <a:off x="8888400" y="7772400"/>
            <a:ext cx="21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后桥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椭圆 28"/>
          <p:cNvSpPr/>
          <p:nvPr/>
        </p:nvSpPr>
        <p:spPr>
          <a:xfrm>
            <a:off x="10650600" y="6161040"/>
            <a:ext cx="183960" cy="184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5"/>
          <p:cNvSpPr/>
          <p:nvPr/>
        </p:nvSpPr>
        <p:spPr>
          <a:xfrm>
            <a:off x="9999720" y="584028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河北村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椭圆 30"/>
          <p:cNvSpPr/>
          <p:nvPr/>
        </p:nvSpPr>
        <p:spPr>
          <a:xfrm>
            <a:off x="12347640" y="5721480"/>
            <a:ext cx="183960" cy="183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5"/>
          <p:cNvSpPr/>
          <p:nvPr/>
        </p:nvSpPr>
        <p:spPr>
          <a:xfrm>
            <a:off x="11676240" y="592308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杨镇道班新址土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5"/>
          <p:cNvSpPr/>
          <p:nvPr/>
        </p:nvSpPr>
        <p:spPr>
          <a:xfrm>
            <a:off x="8798040" y="60310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俸伯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5"/>
          <p:cNvSpPr/>
          <p:nvPr/>
        </p:nvSpPr>
        <p:spPr>
          <a:xfrm>
            <a:off x="9753480" y="6537240"/>
            <a:ext cx="11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前俸伯小修班土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5"/>
          <p:cNvSpPr/>
          <p:nvPr/>
        </p:nvSpPr>
        <p:spPr>
          <a:xfrm>
            <a:off x="6667560" y="546408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张喜庄道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3T06:28:00Z</dcterms:created>
  <dc:creator>ysl</dc:creator>
  <dc:description/>
  <dc:language>en-US</dc:language>
  <cp:lastModifiedBy>rt rt</cp:lastModifiedBy>
  <cp:lastPrinted>2021-12-03T03:43:00Z</cp:lastPrinted>
  <dcterms:modified xsi:type="dcterms:W3CDTF">2024-08-19T06:22:32Z</dcterms:modified>
  <cp:revision>15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93</vt:lpwstr>
  </property>
</Properties>
</file>